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2.gif" ContentType="image/gi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4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gif" ContentType="image/gi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19.wmf" ContentType="image/x-wmf"/>
  <Override PartName="/ppt/media/image21.wmf" ContentType="image/x-wmf"/>
  <Override PartName="/ppt/media/image20.png" ContentType="image/png"/>
  <Override PartName="/ppt/media/image18.png" ContentType="image/png"/>
  <Override PartName="/ppt/media/image29.gif" ContentType="image/gif"/>
  <Override PartName="/ppt/media/image17.wmf" ContentType="image/x-wm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467480" y="0"/>
            <a:ext cx="167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cc3300"/>
                </a:solidFill>
                <a:latin typeface="Arial"/>
                <a:ea typeface="华文行楷"/>
              </a:rPr>
              <a:t>圆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 flipH="1">
            <a:off x="-360" y="5022720"/>
            <a:ext cx="1849320" cy="18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hyperlink" Target="http://www.czsx.com.cn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457200"/>
            <a:ext cx="3886200" cy="24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二十四章  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248520" y="2057400"/>
            <a:ext cx="2438280" cy="2428920"/>
            <a:chOff x="6248520" y="2057400"/>
            <a:chExt cx="2438280" cy="242892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6248520" y="2057400"/>
              <a:ext cx="2438280" cy="24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085160" y="2955960"/>
              <a:ext cx="68724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3159360" y="358128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4.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弧长和扇形面积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 rot="19938000">
            <a:off x="151920" y="533160"/>
            <a:ext cx="26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当堂训练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124080" y="1066680"/>
            <a:ext cx="2286000" cy="2057400"/>
            <a:chOff x="3124080" y="1066680"/>
            <a:chExt cx="2286000" cy="20574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124080" y="1066680"/>
              <a:ext cx="9399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343400" y="1752480"/>
              <a:ext cx="106668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10080" y="917640"/>
            <a:ext cx="18036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43200" y="68580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学习目标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66680" y="2133720"/>
            <a:ext cx="7204320" cy="2057400"/>
            <a:chOff x="1066680" y="2133720"/>
            <a:chExt cx="7204320" cy="2057400"/>
          </a:xfrm>
        </p:grpSpPr>
        <p:sp>
          <p:nvSpPr>
            <p:cNvPr id="48" name=""/>
            <p:cNvSpPr/>
            <p:nvPr/>
          </p:nvSpPr>
          <p:spPr>
            <a:xfrm>
              <a:off x="1066680" y="2133720"/>
              <a:ext cx="7204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了解扇形的概念，复习圆的周长、圆的面积公式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探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n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的弧长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            和扇形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扇形＝         的计算公式，并应用这些公式解决相关问题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638680" y="2819520"/>
              <a:ext cx="60984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209680" y="3352680"/>
              <a:ext cx="7876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971800" y="76320"/>
            <a:ext cx="3276720" cy="1447560"/>
            <a:chOff x="2971800" y="76320"/>
            <a:chExt cx="3276720" cy="1447560"/>
          </a:xfrm>
        </p:grpSpPr>
        <p:sp>
          <p:nvSpPr>
            <p:cNvPr id="52" name=""/>
            <p:cNvSpPr/>
            <p:nvPr/>
          </p:nvSpPr>
          <p:spPr>
            <a:xfrm>
              <a:off x="2971800" y="76320"/>
              <a:ext cx="3276720" cy="144756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200400" y="380880"/>
              <a:ext cx="28954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预习导学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890280" y="83916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自学指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5800" y="1906560"/>
            <a:ext cx="7873920" cy="3884760"/>
            <a:chOff x="685800" y="1906560"/>
            <a:chExt cx="7873920" cy="3884760"/>
          </a:xfrm>
        </p:grpSpPr>
        <p:sp>
          <p:nvSpPr>
            <p:cNvPr id="56" name=""/>
            <p:cNvSpPr/>
            <p:nvPr/>
          </p:nvSpPr>
          <p:spPr>
            <a:xfrm>
              <a:off x="685800" y="1906560"/>
              <a:ext cx="7873920" cy="38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自学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阅读教材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页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归纳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在半径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中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的弧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                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n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的弧长是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在半径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中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应的扇形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              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n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应的扇形面积是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半径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弧长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扇形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3000" y="3498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48520" y="34988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9320" y="50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10280" y="5091120"/>
              <a:ext cx="762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38680" y="5791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45720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00800" y="2895480"/>
            <a:ext cx="51120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442800" cy="60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10280" y="4419720"/>
            <a:ext cx="64476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15000" y="5105520"/>
            <a:ext cx="4716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124080" y="-63360"/>
            <a:ext cx="3276720" cy="1434960"/>
            <a:chOff x="3124080" y="-63360"/>
            <a:chExt cx="3276720" cy="1434960"/>
          </a:xfrm>
        </p:grpSpPr>
        <p:sp>
          <p:nvSpPr>
            <p:cNvPr id="68" name=""/>
            <p:cNvSpPr/>
            <p:nvPr/>
          </p:nvSpPr>
          <p:spPr>
            <a:xfrm>
              <a:off x="3124080" y="-63360"/>
              <a:ext cx="3276720" cy="143496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3352680" y="237960"/>
              <a:ext cx="2895840" cy="83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预习导学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550880" y="381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自学检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8480" y="1905120"/>
            <a:ext cx="4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3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66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3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352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523880"/>
            <a:ext cx="8356320" cy="2973600"/>
            <a:chOff x="304920" y="1523880"/>
            <a:chExt cx="8356320" cy="2973600"/>
          </a:xfrm>
        </p:grpSpPr>
        <p:sp>
          <p:nvSpPr>
            <p:cNvPr id="75" name=""/>
            <p:cNvSpPr/>
            <p:nvPr/>
          </p:nvSpPr>
          <p:spPr>
            <a:xfrm>
              <a:off x="304920" y="1523880"/>
              <a:ext cx="8356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半径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则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对的弧长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是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个扇形所在圆的半径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扇形的圆心角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则扇形的面积为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在一个圆中，如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心角所对的弧长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6π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那么这个圆的半径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扇形的半径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圆心角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那么这个扇形的面积等于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304812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373392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0720" y="449568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400000">
              <a:off x="769320" y="173772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362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102960" y="-185400"/>
            <a:ext cx="3406320" cy="2275920"/>
            <a:chOff x="-102960" y="-185400"/>
            <a:chExt cx="3406320" cy="2275920"/>
          </a:xfrm>
        </p:grpSpPr>
        <p:sp>
          <p:nvSpPr>
            <p:cNvPr id="83" name=""/>
            <p:cNvSpPr/>
            <p:nvPr/>
          </p:nvSpPr>
          <p:spPr>
            <a:xfrm rot="414000">
              <a:off x="0" y="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757000">
              <a:off x="338040" y="530280"/>
              <a:ext cx="24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33720" y="53424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1480" y="2362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2360" y="30481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19320" y="1981080"/>
            <a:ext cx="6856200" cy="3835440"/>
            <a:chOff x="1219320" y="1981080"/>
            <a:chExt cx="6856200" cy="3835440"/>
          </a:xfrm>
        </p:grpSpPr>
        <p:sp>
          <p:nvSpPr>
            <p:cNvPr id="89" name=""/>
            <p:cNvSpPr/>
            <p:nvPr/>
          </p:nvSpPr>
          <p:spPr>
            <a:xfrm>
              <a:off x="1219320" y="1981080"/>
              <a:ext cx="685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在一个周长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80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圆中，长度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60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弧所对圆心角为        度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扇形的弧长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π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面积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πcm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那么它的圆心角为           度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半径是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直径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一点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交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于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若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半径等于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5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等于⊙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周长的      ，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6400800" y="4367160"/>
              <a:ext cx="129528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200400" y="27432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342900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4419720" y="4191120"/>
              <a:ext cx="30312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5460000">
              <a:off x="7309080" y="358308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60000">
              <a:off x="5419080" y="394740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919520" y="472428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π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102960" y="-185400"/>
            <a:ext cx="3406320" cy="2275920"/>
            <a:chOff x="-102960" y="-185400"/>
            <a:chExt cx="3406320" cy="2275920"/>
          </a:xfrm>
        </p:grpSpPr>
        <p:sp>
          <p:nvSpPr>
            <p:cNvPr id="98" name=""/>
            <p:cNvSpPr/>
            <p:nvPr/>
          </p:nvSpPr>
          <p:spPr>
            <a:xfrm rot="414000">
              <a:off x="0" y="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757000">
              <a:off x="338040" y="530280"/>
              <a:ext cx="24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70400" y="68652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1752480"/>
            <a:ext cx="7570800" cy="2208240"/>
            <a:chOff x="762120" y="1752480"/>
            <a:chExt cx="7570800" cy="2208240"/>
          </a:xfrm>
        </p:grpSpPr>
        <p:sp>
          <p:nvSpPr>
            <p:cNvPr id="102" name=""/>
            <p:cNvSpPr/>
            <p:nvPr/>
          </p:nvSpPr>
          <p:spPr>
            <a:xfrm>
              <a:off x="762120" y="1752480"/>
              <a:ext cx="69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弓形的弧所对的圆心角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弓形的弦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长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这个弓形的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943600" y="2438280"/>
              <a:ext cx="2389320" cy="15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1609560" y="2592360"/>
            <a:ext cx="2876040" cy="531720"/>
            <a:chOff x="1609560" y="2592360"/>
            <a:chExt cx="2876040" cy="531720"/>
          </a:xfrm>
        </p:grpSpPr>
        <p:sp>
          <p:nvSpPr>
            <p:cNvPr id="105" name=""/>
            <p:cNvSpPr/>
            <p:nvPr/>
          </p:nvSpPr>
          <p:spPr>
            <a:xfrm>
              <a:off x="1609560" y="2592360"/>
              <a:ext cx="287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解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6π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        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665160" y="2668680"/>
              <a:ext cx="457920" cy="45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106668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拨精讲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弓形的面积等于扇形面积减去三             角形的面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3886200"/>
            <a:ext cx="7239240" cy="1978200"/>
            <a:chOff x="838080" y="3886200"/>
            <a:chExt cx="7239240" cy="1978200"/>
          </a:xfrm>
        </p:grpSpPr>
        <p:sp>
          <p:nvSpPr>
            <p:cNvPr id="109" name=""/>
            <p:cNvSpPr/>
            <p:nvPr/>
          </p:nvSpPr>
          <p:spPr>
            <a:xfrm>
              <a:off x="838080" y="388620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水平放置的圆柱形排水管道的截面半径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.6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其中水面高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.9cm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截面上有水部分的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(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精确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.01cm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934320" y="4724280"/>
              <a:ext cx="1143000" cy="114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233440" y="5181480"/>
            <a:ext cx="3719520" cy="601920"/>
            <a:chOff x="2233440" y="5181480"/>
            <a:chExt cx="3719520" cy="60192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3078720" y="5181480"/>
              <a:ext cx="1256400" cy="6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233440" y="5257800"/>
              <a:ext cx="37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解：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0.91(cm</a:t>
              </a:r>
              <a:r>
                <a:rPr b="0" lang="zh-CN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-102960" y="-185400"/>
            <a:ext cx="3406320" cy="2275920"/>
            <a:chOff x="-102960" y="-185400"/>
            <a:chExt cx="3406320" cy="2275920"/>
          </a:xfrm>
        </p:grpSpPr>
        <p:sp>
          <p:nvSpPr>
            <p:cNvPr id="115" name=""/>
            <p:cNvSpPr/>
            <p:nvPr/>
          </p:nvSpPr>
          <p:spPr>
            <a:xfrm rot="414000">
              <a:off x="0" y="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757000">
              <a:off x="338040" y="530280"/>
              <a:ext cx="24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522680" y="8391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1890720"/>
            <a:ext cx="7178760" cy="1913040"/>
            <a:chOff x="685800" y="1890720"/>
            <a:chExt cx="7178760" cy="1913040"/>
          </a:xfrm>
        </p:grpSpPr>
        <p:sp>
          <p:nvSpPr>
            <p:cNvPr id="119" name=""/>
            <p:cNvSpPr/>
            <p:nvPr/>
          </p:nvSpPr>
          <p:spPr>
            <a:xfrm>
              <a:off x="685800" y="1890720"/>
              <a:ext cx="7178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在同心圆中，两圆半径分别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阴影部分的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324480" y="2438280"/>
              <a:ext cx="137160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66680" y="2743200"/>
            <a:ext cx="11658600" cy="736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5800" y="3733920"/>
            <a:ext cx="7238880" cy="1600200"/>
            <a:chOff x="685800" y="3733920"/>
            <a:chExt cx="7238880" cy="1600200"/>
          </a:xfrm>
        </p:grpSpPr>
        <p:sp>
          <p:nvSpPr>
            <p:cNvPr id="126" name=""/>
            <p:cNvSpPr/>
            <p:nvPr/>
          </p:nvSpPr>
          <p:spPr>
            <a:xfrm>
              <a:off x="685800" y="373392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已知正三角形的边长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求它的内切圆与外接圆组成的圆环的面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629400" y="4191120"/>
              <a:ext cx="114156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1868040" y="4647600"/>
            <a:ext cx="28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直角三角形三边关系，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371600" y="5105520"/>
            <a:ext cx="122680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19580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别是半径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半圆圆周上的两个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等分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是直径，求阴影部分的面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69920" y="369972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9320" y="-33120"/>
            <a:ext cx="3406320" cy="2275920"/>
            <a:chOff x="49320" y="-33120"/>
            <a:chExt cx="3406320" cy="2275920"/>
          </a:xfrm>
        </p:grpSpPr>
        <p:sp>
          <p:nvSpPr>
            <p:cNvPr id="133" name=""/>
            <p:cNvSpPr/>
            <p:nvPr/>
          </p:nvSpPr>
          <p:spPr>
            <a:xfrm rot="414000">
              <a:off x="151920" y="15192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757000">
              <a:off x="490680" y="682560"/>
              <a:ext cx="24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75320" y="9914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4382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2057400" y="2743200"/>
            <a:ext cx="1819440" cy="880920"/>
            <a:chOff x="2057400" y="2743200"/>
            <a:chExt cx="1819440" cy="880920"/>
          </a:xfrm>
        </p:grpSpPr>
        <p:sp>
          <p:nvSpPr>
            <p:cNvPr id="139" name=""/>
            <p:cNvSpPr/>
            <p:nvPr/>
          </p:nvSpPr>
          <p:spPr>
            <a:xfrm>
              <a:off x="2057400" y="2834640"/>
              <a:ext cx="18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解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2819520" y="2743200"/>
              <a:ext cx="36504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973240" y="312336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8120" y="1219320"/>
            <a:ext cx="345600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95880" y="20574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858000" y="2895480"/>
            <a:ext cx="838080" cy="75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25880" y="2132640"/>
            <a:ext cx="37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圆心角所对的弧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/>
          </p:cNvPr>
          <p:cNvSpPr/>
          <p:nvPr/>
        </p:nvSpPr>
        <p:spPr>
          <a:xfrm>
            <a:off x="1981080" y="2633040"/>
            <a:ext cx="50277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扇形的概念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圆心角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扇形面积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宋体"/>
                <a:ea typeface="Times New Roman"/>
              </a:rPr>
              <a:t>扇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09:11:29Z</dcterms:created>
  <dc:creator/>
  <dc:description/>
  <dc:language>en-US</dc:language>
  <cp:lastModifiedBy>微软用户</cp:lastModifiedBy>
  <dcterms:modified xsi:type="dcterms:W3CDTF">2013-06-04T08:34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